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F4B8-02A0-4013-8649-0787D622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385E-C111-4100-902F-CA39675D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3294-8340-4171-BCA0-C91C5102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7DBE-2E5E-4AC5-B348-EFC56700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804F-76A6-4C47-A600-CDF17199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11F1-0029-4D41-9798-5F8C212D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8C7B-F3F0-43B6-AA35-AF1CAE7C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F07E-6727-482F-966F-F0D51E63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2752-CA08-4626-AB2B-C505313F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FD06-BA97-449B-A63D-36CA8BF3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B5F0-CDB6-47D7-B20A-4F10BA35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D5E0-1740-4027-954F-56AE8D11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A02D-A936-4885-A6AA-85110278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346F-FA34-4E4F-B6DB-8559064E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5B33-D47E-4C65-BAB7-90B690C5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B107-94C8-40D3-9476-7D4A2637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A566-8003-4DE9-BEDD-E9E941E6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C348-D9FF-4136-ADBC-F3E56854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B1BC-6ACC-4AD9-BC4E-39913948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A03B-3ECD-4650-B667-8B942005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553-2AF9-48CB-875E-4D969CE5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164D-7A3F-415C-B6C6-51AABBDB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3970-2D8B-4F47-BBCC-3187E990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B7C7-3654-42D2-85A6-86A3327A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38AA-D266-438A-861E-2B4F41B8ECD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B510-A81B-4359-8EA6-87FFE048408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ICo Arithmetic and Logic Uni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바탕"/>
              </a:rPr>
              <a:t>The Need for Spe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바탕"/>
              </a:rPr>
              <a:t>(with minimal area and power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LU Top Level Topolog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 primary logic block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hift, Add, Compare, And, Or, OutMux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ss A Direct to Ou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ift Topolog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y of mux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itical Pa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-&gt;Compare-&gt;MU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4267080" cy="44956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tric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 wid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775.5 micromet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wer consum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2 milliWat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 nanoseco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der Bloc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rror Adder used as the individual full add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ry-select topolo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riable block sizes of 6-4-3-2-1 for O(N^0.5) delay growth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57200" y="2259000"/>
            <a:ext cx="4038480" cy="871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457200" y="4089240"/>
            <a:ext cx="4038480" cy="1892520"/>
          </a:xfrm>
          <a:prstGeom prst="rect">
            <a:avLst/>
          </a:prstGeom>
          <a:ln w="0">
            <a:noFill/>
          </a:ln>
        </p:spPr>
      </p:pic>
    </p:spTree>
  </p:cSld>
  <p:transition advTm="60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ubtraction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(The Adder Extended)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tilizes the adder to implement two’s complement subtra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in= 1 and B invert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th these conditions selected by a mux based on the sub op code the add becomes two’s compl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nimizes Area and power (only one structure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60000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rbitrary Function: Comparato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ee Scenari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gnified by three most significant bit outpu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0:13 ground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6bit XOR and 16bit NAN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termines if A==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btract Utiliz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wo’s complement output of ADD block compares A and 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rawbac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ea and extra NAND delay on critical pat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572000" y="1600200"/>
            <a:ext cx="4343400" cy="4495680"/>
          </a:xfrm>
          <a:prstGeom prst="rect">
            <a:avLst/>
          </a:prstGeom>
          <a:ln w="0">
            <a:noFill/>
          </a:ln>
        </p:spPr>
      </p:pic>
    </p:spTree>
  </p:cSld>
  <p:transition advTm="60000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UX Topolog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962160" cy="3733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809880" cy="3733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04920" y="54100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to 1 MUX Pass Gate Schema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54100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8 to 1 MUX built from 2 to 1 MUX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ptimiz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zed the mirror adder according to logical effort, as shown in the textboo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nimum sized all the other functions as they are not the worst case pa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ffered all the long (&gt;3) transmission gate paths for more spe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60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gist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ir of muxes with feedback and buffered Q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7924680" cy="2724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23:20:26Z</dcterms:created>
  <dc:creator>ITC Labs and Classrooms</dc:creator>
  <dc:description/>
  <dc:language>en-US</dc:language>
  <cp:lastModifiedBy>Andrew Ashworth</cp:lastModifiedBy>
  <dcterms:modified xsi:type="dcterms:W3CDTF">2008-04-29T14:54:22Z</dcterms:modified>
  <cp:revision>4</cp:revision>
  <dc:subject/>
  <dc:title>PICo Arithmetic and Logic Unit</dc:title>
</cp:coreProperties>
</file>